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79E-D3B1-4A9B-AF4E-1F72790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69A-11C0-464A-AAD8-CA59F42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CE8-5D33-410A-A3F0-8F836DC1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CA7-73B5-4866-B6E4-10B9681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AF2C-14F1-46A2-B9D2-0A848252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EACA-A6B1-43E1-A56E-383AF2C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3F41-34DD-4907-A46F-18C21359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B24C-3C76-42A3-BDF9-7FE0228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0CC-1F7A-4DDB-BAF6-7D44A79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7186-512C-4F8D-B619-8A098B1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8EC0-4735-4DF3-9E82-362F773D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98D-B092-4C63-AF91-420CFB6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302E-3448-4127-B61B-3CFCB3C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08B9-34F4-44C4-9404-0362057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4A4D-F9A7-44EB-BBA1-4D7C708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7ED-0F98-4C67-AF19-62FE2EDB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5F5-9B73-41BD-8A30-052ACB5A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A1F-6176-4678-9DF6-29E4DB49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402-6E71-490B-9E34-7246837E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E63-8CBE-4CBF-B9BE-874C2BA2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029-3F60-424D-AA18-41FDADDA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3C6-60A0-4D7B-9311-D94D945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ACC-57E8-4C3D-8401-B9483D9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E9F-6924-4119-9BB3-F9B35EA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60FD-E6FA-4C14-802E-F0941A0D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6256-D2DD-42AD-AD76-CC5C7F02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втор: Староверов А.Л.- 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учителя</cp:lastModifiedBy>
  <dcterms:modified xsi:type="dcterms:W3CDTF">2013-11-16T09:01:20Z</dcterms:modified>
  <cp:revision>48</cp:revision>
  <dc:subject/>
  <dc:title>Слайд 1</dc:title>
</cp:coreProperties>
</file>